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398F-ACB5-41C6-8758-0DE7345BD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F10-9FBB-42CA-AEA2-C716BAA3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2AF-7D79-4EFC-9B32-AE65A29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6FC-C4CF-4317-B066-3D8C9373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6EF-CEAD-42B3-AC9B-5F3FBB14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BA5B-22DA-4863-B654-C1F40702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17E1-95DC-4CA8-847C-DFAA29DC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F95-78E6-4328-987B-8450BADF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4367-DE43-48EC-B68F-BF5F6AA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9958-A2DA-4D9B-9371-A5942BE5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5978-1024-403B-8189-A78FF054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8EBF-6E67-4ED0-B00F-B05275D5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046-938D-4B90-9A5F-7904617C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F26-5E01-41DA-9356-A9528013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F8E9-0E62-4FA9-8D0A-FD81774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6064-422B-4CCF-9A92-42D68328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563A-5B31-4D06-96F1-6A5651BA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1437-0DA3-45B4-BC97-64C159D3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8D699-F924-4BED-8A61-2FBE164E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3CF0-F671-4FD5-A48D-AB3BBCEC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6BAAE-1607-45C7-BAF5-99A37DCD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F005-58BF-4B52-A269-59A75FF4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CB72-C648-4FD8-BAB9-ECC298C9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804-9F53-40AF-909C-ACDAFD93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AF1D-B94E-4AAA-B97B-A2E7841E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3089-ED5B-4D4F-B25A-42E11803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5122-4AD2-48B8-9DE3-75E7AD2F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8A0F-65BC-436C-91C0-A0666D28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261E-31EA-4BFA-8064-CB2105E0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D4CC-2053-435C-A6DC-1247F5FD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3A8D-8935-4DE6-A947-3158A7F6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381-33D0-4415-AE99-14A06B7A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567-4BF6-423E-B538-F74DA00A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55D3-6843-4868-9587-7258DFF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A85-B655-4C7E-8457-B98C294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11C9-0DF5-451B-B983-B7DA60D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B26-75B6-4438-8BB6-11191BA0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7A29-1460-4A89-A2B2-82D296A28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DA4F-8D0C-47FE-881D-B34A9B6A4F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6D50-9A50-4CFF-B3D2-8E4D4DCB1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66680" y="38088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3505320" y="992160"/>
            <a:ext cx="5486400" cy="541332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rk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952880" y="76320"/>
            <a:ext cx="3954600" cy="66182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275000" y="457200"/>
            <a:ext cx="4616640" cy="59180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038480" y="303120"/>
            <a:ext cx="4572000" cy="63262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ve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9212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548320" cy="4405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066680" y="358128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man with Wolves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Rave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962680" cy="4437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4876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Hawk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237200" y="762120"/>
            <a:ext cx="4197240" cy="52369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e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429000" y="1057320"/>
            <a:ext cx="5638680" cy="5570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1066680" y="2719440"/>
            <a:ext cx="7925040" cy="4062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72428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squito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90720" y="76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cc"/>
                </a:solidFill>
                <a:uFillTx/>
                <a:latin typeface="Arial"/>
              </a:rPr>
              <a:t>Northwest Coast Tribes: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Tlingit (Tooling git), Tsimshian (Chim she an), Haida (Hi duh), Nootka, Kwakiutl (Quack ee oodle), Coast Salish, Bellabella and Bella Co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1895400"/>
            <a:ext cx="5486400" cy="3438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219320" y="52578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219320" y="22860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west Indian Desig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Caren Car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nternational Design Library ,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ative North American Art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Janet C. Berlo &amp; Ruth B. Phi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Indians of the Northwest Traditio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, History, Legends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Petra Pres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civilization.c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alcheringa-gallery.com/ http://www.blacktush.ca/ http://www.serial-design.com/ - http://www.serial-desig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PaintStroke"/>
              </a:rPr>
              <a:t>www.chichesterinc.com/NWCMask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 American Indian Motif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CD-Rom an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ver Publication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Picture 2"/>
          <p:cNvPicPr/>
          <p:nvPr/>
        </p:nvPicPr>
        <p:blipFill>
          <a:blip r:embed="rId1"/>
          <a:stretch/>
        </p:blipFill>
        <p:spPr>
          <a:xfrm>
            <a:off x="3414600" y="30240"/>
            <a:ext cx="5119920" cy="6796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90792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590920" y="1295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590920" y="45720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4600" y="304920"/>
            <a:ext cx="473220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Portrait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90720" y="48769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Wild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002120" y="228600"/>
            <a:ext cx="483696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90720" y="4876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Old Wo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454640" y="304920"/>
            <a:ext cx="4460760" cy="62481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651120" y="380880"/>
            <a:ext cx="541656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65360" y="914400"/>
            <a:ext cx="55263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429000" y="1087560"/>
            <a:ext cx="5638680" cy="48686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657600" y="1015920"/>
            <a:ext cx="5334120" cy="50864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0:34:31Z</dcterms:created>
  <dc:creator>LPS Lincoln Public Schools</dc:creator>
  <dc:description/>
  <dc:language>en-US</dc:language>
  <cp:lastModifiedBy>Legion</cp:lastModifiedBy>
  <cp:lastPrinted>2008-09-25T22:15:34Z</cp:lastPrinted>
  <dcterms:modified xsi:type="dcterms:W3CDTF">2017-07-05T12:15:59Z</dcterms:modified>
  <cp:revision>4</cp:revision>
  <dc:subject/>
  <dc:title>PowerPoint Presentation</dc:title>
</cp:coreProperties>
</file>